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wmf" ContentType="image/x-wmf"/>
  <Override PartName="/ppt/media/image4.jpeg" ContentType="image/jpeg"/>
  <Override PartName="/ppt/media/image5.wmf" ContentType="image/x-wmf"/>
  <Override PartName="/ppt/media/image10.wmf" ContentType="image/x-wmf"/>
  <Override PartName="/ppt/media/image6.wmf" ContentType="image/x-wmf"/>
  <Override PartName="/ppt/media/image7.png" ContentType="image/png"/>
  <Override PartName="/ppt/media/image11.wmf" ContentType="image/x-wmf"/>
  <Override PartName="/ppt/media/image12.png" ContentType="image/png"/>
  <Override PartName="/ppt/media/image8.wmf" ContentType="image/x-wmf"/>
  <Override PartName="/ppt/media/image9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</p:sldIdLst>
  <p:sldSz cx="9144000" cy="6858000"/>
  <p:notesSz cx="6858000" cy="9144000"/>
  <p:custShowLst>
    <p:custShow name="Clown bounce" id="0">
      <p:sldLst>
        <p:sld r:id="rId24"/>
      </p:sldLst>
    </p:custShow>
    <p:custShow name="Clown Throw" id="1">
      <p:sldLst>
        <p:sld r:id="rId23"/>
      </p:sldLst>
    </p:custShow>
    <p:custShow name="Correct" id="2">
      <p:sldLst>
        <p:sld r:id="rId22"/>
      </p:sldLst>
    </p:custShow>
    <p:custShow name="Wrong" id="3">
      <p:sldLst>
        <p:sld r:id="rId21"/>
      </p:sldLst>
    </p:custShow>
    <p:custShow name="rollover" id="4">
      <p:sldLst>
        <p:sld r:id="rId19"/>
        <p:sld r:id="rId20"/>
      </p:sldLst>
    </p:custShow>
    <p:custShow name="Sardinia" id="5">
      <p:sldLst>
        <p:sld r:id="rId2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E869A-F38F-4B9E-9151-97868DD17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705E0-8F42-4915-8F6D-CC4F1C8AC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D65849-90CF-49DE-BCC1-0B2AFCED1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8FE461-F960-4ED5-B262-075A28EFF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FF6079-6604-4398-8681-ABAC83296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AB16E3-75B9-419E-A12B-0424F8189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71B93D-CA98-43E5-A988-667E629A4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D4B533-9268-48FF-9E08-C94875502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68F3A8-B407-413E-8F47-6C04CDBA9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6A253D-5D47-47CC-A72E-27BB9035B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550196-D005-4E2E-868A-499479549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2B5EE1-5A90-47FA-B8A4-3680B9517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0AD2B-EE82-46A5-A468-8E87BB205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9F5E64-8CFA-49BE-A901-DE4AD93C8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219F04-737D-463D-BDF1-4CB0EF489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8C936B-09E8-4CB8-A6FD-EA2B6A1F0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FC0355-B9AF-428D-95C6-4D9A98B67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34DE76-492C-438C-86EB-0CC69339C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D24614-6D06-4C1A-8D62-BB4445B4D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1C7813-2555-4D56-8E60-D8BA85263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B95167-D0F3-43D7-9DD2-0FE1D641A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8294D0-6F62-4F3D-9C21-DFC87ED07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114108-C3BB-49CE-8388-FA5DA358F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4269B-2A9D-41BE-836C-BEF26BBFE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0BCB27-2577-4E13-A6CE-68365CB6A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38373C-1152-4452-B2FC-FE7472D0B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06A858-5D69-43A2-A971-79CF83075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8CA225-8962-4849-B570-77A7C8FC0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639721-5CDB-4CEE-9D78-362052EB4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94D903-06E3-4E51-9369-F94DC2355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72D300-A2A1-4F4C-B866-54C663580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E7E927-3CEC-48E2-B785-23F7A8BDD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58A464-ABC2-4152-8B4B-20DFB0353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4BAF99-D74E-49B6-A9DD-80D4CF716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E2417-F0E9-4512-B063-6FDF5E1C8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A89335-F93B-4B8F-B0BC-BBAD0695B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492103-A119-430B-88E0-889615407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ACC26B-530A-448F-BF65-EC88922E5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DD5839-1544-4921-8E2C-3A57D5D86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7A8723-2F12-4E1F-95F8-394A5E12F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FFAC6E-B530-4EF7-9B43-A4E1559D4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411D99-E821-46D5-910F-B21792714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46C8AC-DCF5-4CB9-ACBE-B8BE0A94D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22F3D4-F84E-4AB8-8811-6195E6AE8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DD8193-BEF8-4C66-8EC6-05C872C67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4D17E-B0DB-4523-942A-C544D6879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3A5F64-B532-4C1A-9080-D088F2741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875845-1C7F-4F87-9CEE-64408C89E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691282-553D-421E-9489-E005C04AC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F15382-C9F9-4E08-A531-2CF6456CF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B94B6A-91EA-417C-91AF-811BF4921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B04F4-650B-4C27-AEA5-827C0B703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99F7C-779A-447B-85D2-B926D08C0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96D05-7F65-4A4F-9737-6F67D683A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1B7E7-6414-4044-A2A9-850A02970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35DC5-1BE7-444D-9FD2-72F291B73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A99FE-4624-4898-A36B-91F7141FB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FE32F-27C7-45EB-8FFF-0D264F343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0B8B6-CF27-461B-9CE0-B6C3D0069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FEBC0-35FF-4DE1-93A3-CBB2163C8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ADB24-F6CB-4E5C-B5B1-BA8265489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0B05E-7ED0-424E-A841-E7FF5F2FD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80DECF-7267-4F7A-9278-BC73C2EC3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AF17CC-C212-47F6-82F0-D03EC498C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3CC59A-FA9C-4143-AFF5-755FE9EAE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01CA17-ACFA-4361-BEDB-0E32E6CAF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718C0E-01DA-452D-B58F-B30B9B544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8B3A5-4C63-4D27-A1B7-1BDC8D870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161033-313B-41A4-9419-147A0A867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B4CD99-FE26-4C6E-AC2E-2B5D258A8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CB999A-450A-4A23-9511-3ED2486A1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0F5214-1A46-4B19-8AAE-1526B2DE1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C6263A-E047-4FA4-9112-CC4869EC2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24C57E-2F0B-478D-84E3-61CD75C3E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CA01D3-4971-46C7-8C00-0817020A1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CC95D5-790C-4D93-B1E3-B2B892A69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F3E492-5E8A-4300-BBAD-BDF857F1F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DD19EA-6EB2-4237-A365-B0E0F012C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CEDB4-12FA-4C95-9B79-A3B790239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2994ED-B8B8-4D2F-A84E-A2EBAE85F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C3A257-4B06-44D0-87A5-31916D039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5EA721-A587-41AF-A200-1C2F6B9A1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ACD5A7-26F7-420F-8B10-CED78798B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41D89F-332B-42D0-A092-5ECD17FF3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94749A-A26B-4A0A-9238-EBC513D14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BAA733-47FE-4911-B246-62A97C4F1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281602-24B9-480A-96E5-44A8775BE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1292C5-0DEB-4D18-AF66-8BD4DA9FC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B2D495-D1FE-4B33-9E7A-30D3A98B9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42C70-2EAB-4C58-9614-2B08A0FB2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BB5D08-59E4-44BB-B55B-2E14379EB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922CEE-AF41-4D67-A1D4-22F54530F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03FABD-53F1-4DC2-9F96-77F3B84B9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B20046-5DFE-4745-A496-6E79B9D59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5477DE-E50A-480F-8959-B4B5C9215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9F705D-9CB4-448A-916D-C247666F6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06CFFA-4FB4-41A3-A35D-E2DECAC41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0227B2-E214-43B0-A7AF-FBFE71BAA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FB3186-0D8F-4CB9-A113-7AF6B07A4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EAD6DA-1CCC-4DEB-8DED-8CD505851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63749-CCC9-4A0D-80AE-DDAC580E5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19EF24-4FAD-43E8-BDF3-E4B48A63F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E612B3-56DF-4DA6-819D-CDBBF10F5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419E2B-4153-4093-BF6A-7D7193DE3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04B9A1-48E4-4471-A0D8-27F96302C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228C98-3F97-4DE6-88DA-29117B8FB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8DC335-7191-4021-9DC8-F0566A37D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FEB9EE-B7C0-4ADB-961E-29283BEFA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D61426-758B-438B-9BF9-E92B95CDE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FDAA65-34D8-4B56-8566-D67BA9D1D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C716EF-C3C8-48EC-9D72-30B4A21A2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F768F-DC44-4EDC-9BB3-6AF926778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0F99D7-BDAD-4D47-9865-DC0805C14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92108F-89F4-46D9-A685-362AC8BAF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0291B0-2B64-498D-9E12-731F6CDCB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F3C2D2-CAE4-4DB6-BF1D-315036A2A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C53453-2D60-445D-99A2-1F6536715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7D0929-8871-4E26-B0BA-C517A8E8E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3101D3-6F0C-413F-A3D2-A6E5F7CC9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18E5D8-8B90-4B7A-BC8F-1DFF5711A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86EFC2-45D2-4C01-B89A-235210803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D0FE77-30B4-4CFE-AC37-FFD22AD71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82BA3-712C-483A-85F2-1D8282788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EA8491-2DF3-4D80-B1F7-CA3861AC5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4924BA-0A09-46D8-95C8-6E915C614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0DE4F5-AC1A-443D-A76C-9AA3687ED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E5AA25-798C-48AE-AC3D-97FB09843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8AD4FD-6944-4DC2-9E80-17EF6DB6F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0AC781-8B0A-4082-B8D6-BFF770FB9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C508FA-F3A3-4805-8814-E0AA318C7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FBB1D0-7CBF-42E4-A497-4E25FCCB4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4D42C8-F278-4165-A1F2-0534F3147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156B28-93E8-4268-889B-4E972617F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D78FA-9AA6-4C8F-A819-1949F4B8B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B56903-BE0F-42D0-92C1-714F4A2FC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041E55-027F-401C-BD64-4B9B78233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5E9ECD-A61A-477C-A94A-25A37E3AA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6F5071-6230-4E04-907A-FA24277B6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8A8DD3-F093-40DA-BA49-A22248288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F9C672-15AA-4AF6-9BD4-722B8C8BE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4A2664-9039-4B51-B5A0-DA0719F0E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BCD137-4210-489A-82B1-F01DD740C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62A8A8-5F55-4973-AD06-C7EAA7B98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8B03F7-449C-478A-97EA-18D721419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092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37609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092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092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37609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092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37609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092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092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092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www.PPTAlchemy.co.u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087C3-9FBD-4FCC-89F6-CBC287A9F943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092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37609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092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092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37609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092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37609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092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092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092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51611-B2C6-40C7-AE99-0F46A0E82922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092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37609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092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092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37609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092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37609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092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092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092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98F56-0954-414F-828B-CE8B579A1D82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092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37609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092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092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37609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092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37609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092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092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092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A01F2-FDFA-42EC-B74A-81558EB3D748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092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37609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092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092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37609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092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37609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092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092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092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B1ACF-276E-4A64-B701-10FF934DD1BF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092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37609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092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092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37609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092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37609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092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092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092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DF7A6-36BA-49E0-BBCF-961D761531B1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092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37609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092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092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37609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092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37609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092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092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092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FE355-5BF3-4BFB-9B66-EEE3EA3DEF5D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092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37609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092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092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37609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092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37609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092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092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092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8334A-E9F7-4176-BB2E-6BA0AE31677B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092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37609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092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092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37609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092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37609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092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092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092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C5F3E-7A19-4B05-8480-F7698485B021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092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37609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092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092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37609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092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37609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092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092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092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DA348-120F-4C55-A553-7C5599AD8B39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092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37609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092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092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37609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092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37609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092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092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092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37DAC-ED66-40BD-AF9F-888F803E3029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092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37609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092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092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37609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092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37609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092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092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092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D0D1A-E220-41A0-A643-21459DCB1627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76092"/>
                </a:solidFill>
                <a:latin typeface="Calibri"/>
              </a:rPr>
              <a:t>Mouse over Animation Illusion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pic>
        <p:nvPicPr>
          <p:cNvPr id="493" name="Picture 3" descr="C:\Documents and Settings\John\Local Settings\Temporary Internet Files\Content.IE5\M1GIRSSI\MCj04348850000[1].png"/>
          <p:cNvPicPr/>
          <p:nvPr/>
        </p:nvPicPr>
        <p:blipFill>
          <a:blip r:embed="rId1"/>
          <a:stretch/>
        </p:blipFill>
        <p:spPr>
          <a:xfrm>
            <a:off x="571680" y="228600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494" name="Picture 5" descr="C:\Documents and Settings\John\Local Settings\Temporary Internet Files\Content.IE5\U9ZNHCOW\MCj04239920000[1].wmf"/>
          <p:cNvPicPr/>
          <p:nvPr/>
        </p:nvPicPr>
        <p:blipFill>
          <a:blip r:embed="rId2"/>
          <a:stretch/>
        </p:blipFill>
        <p:spPr>
          <a:xfrm>
            <a:off x="5546880" y="1785960"/>
            <a:ext cx="35971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76092"/>
                </a:solidFill>
                <a:latin typeface="Calibri"/>
              </a:rPr>
              <a:t>Mouse over Animation Illusion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pic>
        <p:nvPicPr>
          <p:cNvPr id="523" name="Picture 3" descr="C:\Documents and Settings\John\Local Settings\Temporary Internet Files\Content.IE5\M1GIRSSI\MCj04348850000[1].png"/>
          <p:cNvPicPr/>
          <p:nvPr/>
        </p:nvPicPr>
        <p:blipFill>
          <a:blip r:embed="rId1"/>
          <a:stretch/>
        </p:blipFill>
        <p:spPr>
          <a:xfrm>
            <a:off x="571680" y="228600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5" descr="C:\Documents and Settings\John\Local Settings\Temporary Internet Files\Content.IE5\U9ZNHCOW\MCj04239920000[1].wmf"/>
          <p:cNvPicPr/>
          <p:nvPr/>
        </p:nvPicPr>
        <p:blipFill>
          <a:blip r:embed="rId2"/>
          <a:stretch/>
        </p:blipFill>
        <p:spPr>
          <a:xfrm>
            <a:off x="5546880" y="1785960"/>
            <a:ext cx="3597120" cy="3429000"/>
          </a:xfrm>
          <a:prstGeom prst="rect">
            <a:avLst/>
          </a:prstGeom>
          <a:ln w="0">
            <a:noFill/>
          </a:ln>
        </p:spPr>
      </p:pic>
      <p:grpSp>
        <p:nvGrpSpPr>
          <p:cNvPr id="525" name="Oval 4"/>
          <p:cNvGrpSpPr/>
          <p:nvPr/>
        </p:nvGrpSpPr>
        <p:grpSpPr>
          <a:xfrm>
            <a:off x="6566040" y="3780000"/>
            <a:ext cx="1225440" cy="1225440"/>
            <a:chOff x="6566040" y="3780000"/>
            <a:chExt cx="1225440" cy="1225440"/>
          </a:xfrm>
        </p:grpSpPr>
        <p:pic>
          <p:nvPicPr>
            <p:cNvPr id="526" name="Oval 4" descr=""/>
            <p:cNvPicPr/>
            <p:nvPr/>
          </p:nvPicPr>
          <p:blipFill>
            <a:blip r:embed="rId3"/>
            <a:stretch/>
          </p:blipFill>
          <p:spPr>
            <a:xfrm>
              <a:off x="6566040" y="3780000"/>
              <a:ext cx="1225440" cy="122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7" name=""/>
            <p:cNvSpPr/>
            <p:nvPr/>
          </p:nvSpPr>
          <p:spPr>
            <a:xfrm>
              <a:off x="6750000" y="3963960"/>
              <a:ext cx="858960" cy="85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800000">
                                      <p:cBhvr>
                                        <p:cTn id="44" dur="1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00"/>
                            </p:stCondLst>
                            <p:childTnLst>
                              <p:par>
                                <p:cTn id="4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1800000">
                                      <p:cBhvr>
                                        <p:cTn id="47" dur="1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200"/>
                            </p:stCondLst>
                            <p:childTnLst>
                              <p:par>
                                <p:cTn id="49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0.156 L -0.51337 -0.156 E">
                                      <p:cBhvr>
                                        <p:cTn id="50" dur="500" fill="hold"/>
                                        <p:tgtEl>
                                          <p:spTgt spid="5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700"/>
                            </p:stCondLst>
                            <p:childTnLst>
                              <p:par>
                                <p:cTn id="5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76092"/>
                </a:solidFill>
                <a:latin typeface="Calibri"/>
              </a:rPr>
              <a:t>Mouse over Animation Illusion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pic>
        <p:nvPicPr>
          <p:cNvPr id="529" name="Picture 3" descr="C:\Documents and Settings\John\Local Settings\Temporary Internet Files\Content.IE5\M1GIRSSI\MCj04348850000[1].png"/>
          <p:cNvPicPr/>
          <p:nvPr/>
        </p:nvPicPr>
        <p:blipFill>
          <a:blip r:embed="rId1"/>
          <a:stretch/>
        </p:blipFill>
        <p:spPr>
          <a:xfrm>
            <a:off x="571680" y="228600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530" name="Picture 5" descr="C:\Documents and Settings\John\Local Settings\Temporary Internet Files\Content.IE5\U9ZNHCOW\MCj04239920000[1].wmf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5546880" y="1785960"/>
            <a:ext cx="3597120" cy="3429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autoRev="1" nodeType="afterEffect" fill="hold" presetClass="path" presetID="5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4 -0.01065 0.018 -0.0213 0.023 -0.0213 C 0.054 -0.0213 0.086 0.14514 0.086 0.31157 C 0.086 0.22769 0.102 0.14513 0.117 0.14513 C 0.133 0.14513 0.148 0.22901 0.148 0.31157 C 0.148 0.27029 0.156 0.22769 0.164 0.22769 C 0.172 0.22769 0.18 0.26897 0.18 0.31157 C 0.18 0.29027 0.184 0.27029 0.188 0.27029 C 0.192 0.27029 0.196 0.29159 0.196 0.31157 C 0.196 0.30092 0.198 0.29027 0.2 0.29027 C 0.201 0.29027 0.204 0.30092 0.204 0.31157 C 0.204 0.30624 0.205 0.30092 0.206 0.30092 C 0.206 0.30225 0.208 0.30625 0.208 0.31157 C 0.208 0.30891 0.208 0.30624 0.209 0.30624 C 0.209 0.30757 0.21 0.3089 0.21 0.31157 C 0.21 0.31024 0.21 0.30891 0.21 0.30758 C 0.211 0.30758 0.211 0.30891 0.211 0.31024 C 0.212 0.31024 0.212 0.30891 0.212 0.30758 C 0.213 0.30758 0.213 0.30891 0.213 0.31024 E">
                                      <p:cBhvr>
                                        <p:cTn id="59" dur="2000" fill="hold"/>
                                        <p:tgtEl>
                                          <p:spTgt spid="5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1" name="Picture 2" descr="C:\Documents and Settings\John\Local Settings\Temporary Internet Files\Content.IE5\NVY6RCLK\MCj04336080000[1].wmf"/>
          <p:cNvPicPr/>
          <p:nvPr/>
        </p:nvPicPr>
        <p:blipFill>
          <a:blip r:embed="rId1"/>
          <a:stretch/>
        </p:blipFill>
        <p:spPr>
          <a:xfrm>
            <a:off x="303120" y="1135080"/>
            <a:ext cx="3768840" cy="4844880"/>
          </a:xfrm>
          <a:prstGeom prst="rect">
            <a:avLst/>
          </a:prstGeom>
          <a:ln w="0">
            <a:noFill/>
          </a:ln>
        </p:spPr>
      </p:pic>
      <p:pic>
        <p:nvPicPr>
          <p:cNvPr id="532" name="Picture 4" descr="sarfinia.jpg"/>
          <p:cNvPicPr/>
          <p:nvPr/>
        </p:nvPicPr>
        <p:blipFill>
          <a:blip r:embed="rId2"/>
          <a:stretch/>
        </p:blipFill>
        <p:spPr>
          <a:xfrm>
            <a:off x="4857840" y="1271520"/>
            <a:ext cx="1577880" cy="986040"/>
          </a:xfrm>
          <a:prstGeom prst="rect">
            <a:avLst/>
          </a:prstGeom>
          <a:ln w="0">
            <a:noFill/>
          </a:ln>
        </p:spPr>
      </p:pic>
      <p:sp>
        <p:nvSpPr>
          <p:cNvPr id="533" name="TextBox 5"/>
          <p:cNvSpPr/>
          <p:nvPr/>
        </p:nvSpPr>
        <p:spPr>
          <a:xfrm>
            <a:off x="4429080" y="2414520"/>
            <a:ext cx="2500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mall enough to be classified as an island but big enough to be a universe unto itself, Sardinia lies about 120 miles west of the Italian peninsula. Its coastline is probably Europe's most spectacul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Box 7"/>
          <p:cNvSpPr/>
          <p:nvPr/>
        </p:nvSpPr>
        <p:spPr>
          <a:xfrm>
            <a:off x="5286240" y="5072040"/>
            <a:ext cx="33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Click  anywhere to hide the info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76092"/>
                </a:solidFill>
                <a:latin typeface="Calibri"/>
              </a:rPr>
              <a:t>Pop Up Info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76092"/>
                </a:solidFill>
                <a:latin typeface="Calibri"/>
              </a:rPr>
              <a:t>Quiz 1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-36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376092"/>
                </a:solidFill>
                <a:latin typeface="Calibri"/>
              </a:rPr>
              <a:t>What picture represents the capital of the UK?</a:t>
            </a:r>
            <a:endParaRPr b="0" lang="en-US" sz="2200" spc="-1" strike="noStrike">
              <a:solidFill>
                <a:srgbClr val="376092"/>
              </a:solidFill>
              <a:latin typeface="Calibri"/>
            </a:endParaRPr>
          </a:p>
        </p:txBody>
      </p:sp>
      <p:pic>
        <p:nvPicPr>
          <p:cNvPr id="497" name="Picture 2" descr="C:\Documents and Settings\John\Local Settings\Temporary Internet Files\Content.IE5\Y3ZQY7N4\MPj04021610000[1].jpg"/>
          <p:cNvPicPr/>
          <p:nvPr/>
        </p:nvPicPr>
        <p:blipFill>
          <a:blip r:embed="rId1"/>
          <a:stretch/>
        </p:blipFill>
        <p:spPr>
          <a:xfrm>
            <a:off x="500040" y="2643120"/>
            <a:ext cx="3900600" cy="3122640"/>
          </a:xfrm>
          <a:prstGeom prst="rect">
            <a:avLst/>
          </a:prstGeom>
          <a:ln w="0">
            <a:noFill/>
          </a:ln>
        </p:spPr>
      </p:pic>
      <p:pic>
        <p:nvPicPr>
          <p:cNvPr id="498" name="Picture 5" descr="C:\Documents and Settings\John\Local Settings\Temporary Internet Files\Content.IE5\7TV6865B\MPj04075810000[1].jpg"/>
          <p:cNvPicPr/>
          <p:nvPr/>
        </p:nvPicPr>
        <p:blipFill>
          <a:blip r:embed="rId2"/>
          <a:stretch/>
        </p:blipFill>
        <p:spPr>
          <a:xfrm>
            <a:off x="4643280" y="2643120"/>
            <a:ext cx="396576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76092"/>
                </a:solidFill>
                <a:latin typeface="Calibri"/>
              </a:rPr>
              <a:t>Quiz 1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-36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376092"/>
                </a:solidFill>
                <a:latin typeface="Calibri"/>
              </a:rPr>
              <a:t>What picture represents traditional Indian dance?</a:t>
            </a:r>
            <a:endParaRPr b="0" lang="en-US" sz="2200" spc="-1" strike="noStrike">
              <a:solidFill>
                <a:srgbClr val="376092"/>
              </a:solidFill>
              <a:latin typeface="Calibri"/>
            </a:endParaRPr>
          </a:p>
        </p:txBody>
      </p:sp>
      <p:pic>
        <p:nvPicPr>
          <p:cNvPr id="501" name="Picture 2" descr="C:\Documents and Settings\John\Local Settings\Temporary Internet Files\Content.IE5\J1KM1NGS\MCj04353040000[1].wmf"/>
          <p:cNvPicPr/>
          <p:nvPr/>
        </p:nvPicPr>
        <p:blipFill>
          <a:blip r:embed="rId1"/>
          <a:stretch/>
        </p:blipFill>
        <p:spPr>
          <a:xfrm>
            <a:off x="1643040" y="3071880"/>
            <a:ext cx="1838520" cy="1752480"/>
          </a:xfrm>
          <a:prstGeom prst="rect">
            <a:avLst/>
          </a:prstGeom>
          <a:ln w="0">
            <a:noFill/>
          </a:ln>
        </p:spPr>
      </p:pic>
      <p:pic>
        <p:nvPicPr>
          <p:cNvPr id="502" name="Picture 5" descr="C:\Documents and Settings\John\Local Settings\Temporary Internet Files\Content.IE5\M1GIRSSI\MCj04245900000[1].wmf"/>
          <p:cNvPicPr/>
          <p:nvPr/>
        </p:nvPicPr>
        <p:blipFill>
          <a:blip r:embed="rId2"/>
          <a:stretch/>
        </p:blipFill>
        <p:spPr>
          <a:xfrm>
            <a:off x="5500800" y="2857680"/>
            <a:ext cx="1638360" cy="197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76092"/>
                </a:solidFill>
                <a:latin typeface="Calibri"/>
              </a:rPr>
              <a:t>Roll Over Images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pic>
        <p:nvPicPr>
          <p:cNvPr id="504" name="Picture 2" descr="professor-frink.bmp"/>
          <p:cNvPicPr/>
          <p:nvPr/>
        </p:nvPicPr>
        <p:blipFill>
          <a:blip r:embed="rId1"/>
          <a:stretch/>
        </p:blipFill>
        <p:spPr>
          <a:xfrm>
            <a:off x="2000160" y="1643040"/>
            <a:ext cx="5429520" cy="40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2" descr="C:\Documents and Settings\John\Local Settings\Temporary Internet Files\Content.IE5\NVY6RCLK\MCj04336080000[1].wmf"/>
          <p:cNvPicPr/>
          <p:nvPr/>
        </p:nvPicPr>
        <p:blipFill>
          <a:blip r:embed="rId1"/>
          <a:stretch/>
        </p:blipFill>
        <p:spPr>
          <a:xfrm>
            <a:off x="303120" y="1135080"/>
            <a:ext cx="3768840" cy="4844880"/>
          </a:xfrm>
          <a:prstGeom prst="rect">
            <a:avLst/>
          </a:prstGeom>
          <a:ln w="0">
            <a:noFill/>
          </a:ln>
        </p:spPr>
      </p:pic>
      <p:sp>
        <p:nvSpPr>
          <p:cNvPr id="506" name="Oval 6"/>
          <p:cNvSpPr/>
          <p:nvPr/>
        </p:nvSpPr>
        <p:spPr>
          <a:xfrm>
            <a:off x="285840" y="3571920"/>
            <a:ext cx="857160" cy="1214280"/>
          </a:xfrm>
          <a:prstGeom prst="ellipse">
            <a:avLst/>
          </a:prstGeom>
          <a:solidFill>
            <a:srgbClr val="4f81bd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Box 7"/>
          <p:cNvSpPr/>
          <p:nvPr/>
        </p:nvSpPr>
        <p:spPr>
          <a:xfrm>
            <a:off x="5286240" y="5072040"/>
            <a:ext cx="335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Click  on Sardinia to reveal  the info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Action Button: Custom 7">
            <a:hlinkClick r:id="" action="ppaction://hlinkshowjump?jump=endshow"/>
          </p:cNvPr>
          <p:cNvSpPr/>
          <p:nvPr/>
        </p:nvSpPr>
        <p:spPr>
          <a:xfrm>
            <a:off x="7715160" y="6286680"/>
            <a:ext cx="857520" cy="357120"/>
          </a:xfrm>
          <a:custGeom>
            <a:avLst/>
            <a:gdLst>
              <a:gd name="textAreaLeft" fmla="*/ 23040 w 857520"/>
              <a:gd name="textAreaRight" fmla="*/ 834480 w 85752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51836" h="21600">
                <a:moveTo>
                  <a:pt x="0" y="0"/>
                </a:moveTo>
                <a:lnTo>
                  <a:pt x="51836" y="0"/>
                </a:lnTo>
                <a:lnTo>
                  <a:pt x="51836" y="21600"/>
                </a:lnTo>
                <a:lnTo>
                  <a:pt x="0" y="21600"/>
                </a:lnTo>
                <a:close/>
              </a:path>
              <a:path fill="lightenLess" w="51836" h="21600">
                <a:moveTo>
                  <a:pt x="0" y="0"/>
                </a:moveTo>
                <a:lnTo>
                  <a:pt x="51836" y="0"/>
                </a:lnTo>
                <a:lnTo>
                  <a:pt x="50436" y="1400"/>
                </a:lnTo>
                <a:lnTo>
                  <a:pt x="1400" y="1400"/>
                </a:lnTo>
                <a:close/>
              </a:path>
              <a:path fill="darken" w="51836" h="21600">
                <a:moveTo>
                  <a:pt x="51836" y="0"/>
                </a:moveTo>
                <a:lnTo>
                  <a:pt x="51836" y="21600"/>
                </a:lnTo>
                <a:lnTo>
                  <a:pt x="50436" y="20200"/>
                </a:lnTo>
                <a:lnTo>
                  <a:pt x="50436" y="1400"/>
                </a:lnTo>
                <a:close/>
              </a:path>
              <a:path fill="darkenLess" w="51836" h="21600">
                <a:moveTo>
                  <a:pt x="518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436" y="20200"/>
                </a:lnTo>
                <a:close/>
              </a:path>
              <a:path fill="lighten" w="518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76092"/>
                </a:solidFill>
                <a:latin typeface="Calibri"/>
              </a:rPr>
              <a:t>Pop Up Info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4">
            <a:hlinkClick r:id="" action="ppaction://hlinkshowjump?jump=nextslide"/>
          </p:cNvPr>
          <p:cNvSpPr/>
          <p:nvPr/>
        </p:nvSpPr>
        <p:spPr>
          <a:xfrm>
            <a:off x="1285920" y="1214280"/>
            <a:ext cx="6786360" cy="4929480"/>
          </a:xfrm>
          <a:prstGeom prst="rect">
            <a:avLst/>
          </a:prstGeom>
          <a:solidFill>
            <a:srgbClr val="4f81bd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76092"/>
                </a:solidFill>
                <a:latin typeface="Calibri"/>
              </a:rPr>
              <a:t>Roll Over Images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pic>
        <p:nvPicPr>
          <p:cNvPr id="512" name="Picture 2" descr="professor-frink.bmp"/>
          <p:cNvPicPr/>
          <p:nvPr/>
        </p:nvPicPr>
        <p:blipFill>
          <a:blip r:embed="rId1"/>
          <a:stretch/>
        </p:blipFill>
        <p:spPr>
          <a:xfrm>
            <a:off x="2000160" y="1643040"/>
            <a:ext cx="5429520" cy="4071960"/>
          </a:xfrm>
          <a:prstGeom prst="rect">
            <a:avLst/>
          </a:prstGeom>
          <a:ln w="0">
            <a:noFill/>
          </a:ln>
        </p:spPr>
      </p:pic>
      <p:pic>
        <p:nvPicPr>
          <p:cNvPr id="513" name="Picture 3" descr="0000034335_20061020191516.jpg"/>
          <p:cNvPicPr/>
          <p:nvPr/>
        </p:nvPicPr>
        <p:blipFill>
          <a:blip r:embed="rId2"/>
          <a:srcRect l="0" t="0" r="404" b="46097"/>
          <a:stretch/>
        </p:blipFill>
        <p:spPr>
          <a:xfrm>
            <a:off x="2000160" y="1643040"/>
            <a:ext cx="5429520" cy="4071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76092"/>
                </a:solidFill>
                <a:latin typeface="Calibri"/>
              </a:rPr>
              <a:t>Roll Over Images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pic>
        <p:nvPicPr>
          <p:cNvPr id="515" name="Picture 2" descr="professor-frink.bmp"/>
          <p:cNvPicPr/>
          <p:nvPr/>
        </p:nvPicPr>
        <p:blipFill>
          <a:blip r:embed="rId1"/>
          <a:stretch/>
        </p:blipFill>
        <p:spPr>
          <a:xfrm>
            <a:off x="2000160" y="1643040"/>
            <a:ext cx="5429520" cy="4071960"/>
          </a:xfrm>
          <a:prstGeom prst="rect">
            <a:avLst/>
          </a:prstGeom>
          <a:ln w="0">
            <a:noFill/>
          </a:ln>
        </p:spPr>
      </p:pic>
      <p:pic>
        <p:nvPicPr>
          <p:cNvPr id="516" name="Picture 3" descr="0000034335_20061020191516.jpg"/>
          <p:cNvPicPr/>
          <p:nvPr/>
        </p:nvPicPr>
        <p:blipFill>
          <a:blip r:embed="rId2"/>
          <a:srcRect l="0" t="0" r="404" b="46097"/>
          <a:stretch/>
        </p:blipFill>
        <p:spPr>
          <a:xfrm>
            <a:off x="2000160" y="1643040"/>
            <a:ext cx="5429520" cy="4071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" dur="1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76092"/>
                </a:solidFill>
                <a:latin typeface="Calibri"/>
              </a:rPr>
              <a:t>Sorry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pic>
        <p:nvPicPr>
          <p:cNvPr id="518" name="Picture 2" descr="C:\Documents and Settings\John\Local Settings\Temporary Internet Files\Content.IE5\U9ZNHCOW\MCj04244840000[1].wmf"/>
          <p:cNvPicPr/>
          <p:nvPr/>
        </p:nvPicPr>
        <p:blipFill>
          <a:blip r:embed="rId1"/>
          <a:stretch/>
        </p:blipFill>
        <p:spPr>
          <a:xfrm>
            <a:off x="3594240" y="2533680"/>
            <a:ext cx="1955520" cy="1790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" dur="3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76092"/>
                </a:solidFill>
                <a:latin typeface="Calibri"/>
              </a:rPr>
              <a:t>Woo Hoo!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pic>
        <p:nvPicPr>
          <p:cNvPr id="520" name="Picture 3" descr="C:\Documents and Settings\John\Local Settings\Temporary Internet Files\Content.IE5\J1KM1NGS\MCj04244480000[1].wmf"/>
          <p:cNvPicPr/>
          <p:nvPr/>
        </p:nvPicPr>
        <p:blipFill>
          <a:blip r:embed="rId1"/>
          <a:stretch/>
        </p:blipFill>
        <p:spPr>
          <a:xfrm>
            <a:off x="2000160" y="2597040"/>
            <a:ext cx="3019680" cy="3189240"/>
          </a:xfrm>
          <a:prstGeom prst="rect">
            <a:avLst/>
          </a:prstGeom>
          <a:ln w="0">
            <a:noFill/>
          </a:ln>
        </p:spPr>
      </p:pic>
      <p:sp>
        <p:nvSpPr>
          <p:cNvPr id="521" name="Oval Callout 4"/>
          <p:cNvSpPr/>
          <p:nvPr/>
        </p:nvSpPr>
        <p:spPr>
          <a:xfrm>
            <a:off x="3286080" y="1668600"/>
            <a:ext cx="3286080" cy="278604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558ed5">
              <a:alpha val="39000"/>
            </a:srgbClr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376092"/>
                </a:solidFill>
                <a:latin typeface="Calibri"/>
              </a:rPr>
              <a:t>You're Right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2000"/>
                            </p:stCondLst>
                            <p:childTnLst>
                              <p:par>
                                <p:cTn id="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2000"/>
                            </p:stCondLst>
                            <p:childTnLst>
                              <p:par>
                                <p:cTn id="36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9:18:12Z</dcterms:created>
  <dc:creator>John Wilson</dc:creator>
  <dc:description/>
  <dc:language>en-US</dc:language>
  <cp:lastModifiedBy>John Wilson</cp:lastModifiedBy>
  <dcterms:modified xsi:type="dcterms:W3CDTF">2008-03-17T10:17:05Z</dcterms:modified>
  <cp:revision>9</cp:revision>
  <dc:subject/>
  <dc:title>Mouse over Animation Illusion</dc:title>
</cp:coreProperties>
</file>